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4DA-42FC-4733-80C2-B9485436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4BB-CC34-404C-B83F-49258AF9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ACD-DFF8-4DCB-8102-C377F369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9DB-AB13-435A-8A2E-0EF1292C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B9F-08A3-42B7-83FC-1B68ACE1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F47-46A3-4C94-8C16-81339AA2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87D-6566-402F-896D-A89B5F2F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376-3A36-4DD8-AB92-C9396D78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5B1-2E23-4790-AF54-88AA8977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FF6-6E3D-4ED2-92E6-3F6DDC9E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4C1-C9B6-4D26-9A48-90370D64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70B-2FFF-4A20-8D31-9BE4218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02AD-3660-459A-88A2-E67442E0C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419360"/>
            <a:ext cx="5791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"/>
              </a:rPr>
              <a:t>Combin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562600">
            <a:off x="-305280" y="1370880"/>
            <a:ext cx="506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Berlin Sans FB"/>
              </a:rPr>
              <a:t>Combin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391400">
            <a:off x="3505320" y="3123720"/>
            <a:ext cx="27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Berlin Sans FB"/>
              </a:rPr>
              <a:t>Comb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066680"/>
            <a:ext cx="390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Berlin Sans FB"/>
              </a:rPr>
              <a:t>Comb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040" y="54100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chocolate fudg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hocolate%20topping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95288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51814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whipped cre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ddiwip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36212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nd a cher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herry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20890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905120" y="58672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 chocolate sun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herry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01916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chocolate%20sundae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897200" cy="3475080"/>
          </a:xfrm>
          <a:prstGeom prst="rect">
            <a:avLst/>
          </a:prstGeom>
          <a:ln w="0">
            <a:noFill/>
          </a:ln>
        </p:spPr>
      </p:pic>
      <p:pic>
        <p:nvPicPr>
          <p:cNvPr id="84" name="ice_cream_commercial_vanilla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1252440" cy="1179360"/>
          </a:xfrm>
          <a:prstGeom prst="rect">
            <a:avLst/>
          </a:prstGeom>
          <a:ln w="0">
            <a:noFill/>
          </a:ln>
        </p:spPr>
      </p:pic>
      <p:pic>
        <p:nvPicPr>
          <p:cNvPr id="85" name="reddiwip" descr=""/>
          <p:cNvPicPr/>
          <p:nvPr/>
        </p:nvPicPr>
        <p:blipFill>
          <a:blip r:embed="rId4"/>
          <a:stretch/>
        </p:blipFill>
        <p:spPr>
          <a:xfrm>
            <a:off x="4724280" y="0"/>
            <a:ext cx="1943280" cy="2028960"/>
          </a:xfrm>
          <a:prstGeom prst="rect">
            <a:avLst/>
          </a:prstGeom>
          <a:ln w="0">
            <a:noFill/>
          </a:ln>
        </p:spPr>
      </p:pic>
      <p:pic>
        <p:nvPicPr>
          <p:cNvPr id="86" name="chocolate%20topping" descr=""/>
          <p:cNvPicPr/>
          <p:nvPr/>
        </p:nvPicPr>
        <p:blipFill>
          <a:blip r:embed="rId5"/>
          <a:stretch/>
        </p:blipFill>
        <p:spPr>
          <a:xfrm>
            <a:off x="2590920" y="685800"/>
            <a:ext cx="1218960" cy="811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051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18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Can you think of another combin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Who can tell me the meaning of comb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Great Jo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anks for wat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get when you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b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680" y="54100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frit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itos-original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336760" cy="3262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50292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nd ch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anned%20chile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2789280" cy="1589040"/>
          </a:xfrm>
          <a:prstGeom prst="rect">
            <a:avLst/>
          </a:prstGeom>
          <a:ln w="0">
            <a:noFill/>
          </a:ln>
        </p:spPr>
      </p:pic>
      <p:pic>
        <p:nvPicPr>
          <p:cNvPr id="50" name="chile" descr=""/>
          <p:cNvPicPr/>
          <p:nvPr/>
        </p:nvPicPr>
        <p:blipFill>
          <a:blip r:embed="rId2"/>
          <a:stretch/>
        </p:blipFill>
        <p:spPr>
          <a:xfrm>
            <a:off x="4038480" y="1981080"/>
            <a:ext cx="342900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5280" y="617220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 frito 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ritopie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496040" cy="4473720"/>
          </a:xfrm>
          <a:prstGeom prst="rect">
            <a:avLst/>
          </a:prstGeom>
          <a:ln w="0">
            <a:noFill/>
          </a:ln>
        </p:spPr>
      </p:pic>
      <p:pic>
        <p:nvPicPr>
          <p:cNvPr id="53" name="frito%20pie" descr=""/>
          <p:cNvPicPr/>
          <p:nvPr/>
        </p:nvPicPr>
        <p:blipFill>
          <a:blip r:embed="rId2"/>
          <a:stretch/>
        </p:blipFill>
        <p:spPr>
          <a:xfrm>
            <a:off x="2057400" y="3022560"/>
            <a:ext cx="4419720" cy="2984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get when you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bi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54860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graham crack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graham%20cracker" descr=""/>
          <p:cNvPicPr/>
          <p:nvPr/>
        </p:nvPicPr>
        <p:blipFill>
          <a:blip r:embed="rId1"/>
          <a:stretch/>
        </p:blipFill>
        <p:spPr>
          <a:xfrm>
            <a:off x="2133720" y="1957320"/>
            <a:ext cx="4647960" cy="3094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 chocolate ba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ershey's%20chocolate%20bar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371920" cy="4653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54860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nd a roasted marshmallow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ini-Smores-Grill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56386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yummy sm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mores%201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276360" cy="2577960"/>
          </a:xfrm>
          <a:prstGeom prst="rect">
            <a:avLst/>
          </a:prstGeom>
          <a:ln w="0">
            <a:noFill/>
          </a:ln>
        </p:spPr>
      </p:pic>
      <p:pic>
        <p:nvPicPr>
          <p:cNvPr id="63" name="graham%20cracker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64" name="hershey's%20chocolate%20bar" descr=""/>
          <p:cNvPicPr/>
          <p:nvPr/>
        </p:nvPicPr>
        <p:blipFill>
          <a:blip r:embed="rId3"/>
          <a:stretch/>
        </p:blipFill>
        <p:spPr>
          <a:xfrm>
            <a:off x="3124080" y="228600"/>
            <a:ext cx="2133720" cy="1849320"/>
          </a:xfrm>
          <a:prstGeom prst="rect">
            <a:avLst/>
          </a:prstGeom>
          <a:ln w="0">
            <a:noFill/>
          </a:ln>
        </p:spPr>
      </p:pic>
      <p:pic>
        <p:nvPicPr>
          <p:cNvPr id="65" name="Mini-Smores-Grill" descr=""/>
          <p:cNvPicPr/>
          <p:nvPr/>
        </p:nvPicPr>
        <p:blipFill>
          <a:blip r:embed="rId4"/>
          <a:stretch/>
        </p:blipFill>
        <p:spPr>
          <a:xfrm>
            <a:off x="6095880" y="4572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960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get when you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bi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50292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ice cre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ce_cream_commercial_vanilla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960640" cy="2789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2:20:01Z</dcterms:created>
  <dc:creator>Lydia Sanchez</dc:creator>
  <dc:description/>
  <dc:language>en-US</dc:language>
  <cp:lastModifiedBy>Lydia Sanchez</cp:lastModifiedBy>
  <dcterms:modified xsi:type="dcterms:W3CDTF">2011-04-07T03:21:55Z</dcterms:modified>
  <cp:revision>6</cp:revision>
  <dc:subject/>
  <dc:title>Let’s Define the Word Combination</dc:title>
</cp:coreProperties>
</file>